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24.wmf" ContentType="image/x-wmf"/>
  <Override PartName="/ppt/media/image6.jpeg" ContentType="image/jpeg"/>
  <Override PartName="/ppt/media/image23.wmf" ContentType="image/x-wmf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36520" y="685440"/>
            <a:ext cx="45849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1CC6-593A-409D-A13B-D820966A9D6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8639-D89C-458F-A09D-5320CBB9C289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0EEC-2905-4A8F-8357-BC7B4FD3E4D8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3F77-5CC4-4E5B-8C9A-FD7B58E6EBDA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FA42-9CD3-4C55-9B8E-47B4259D0896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EF4F-ABCF-4FC1-95A9-6BE280C00548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6101-8EFB-4241-A899-B6FD1B717001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7C35-CCC6-493A-8D9B-F6D8E736DBB0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B54C-4D04-4FC2-853E-5F11E4141342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5EFF-45C2-4E98-BAA5-9DA813065E7E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FD96-A9A8-4E3F-9B82-D3476B5F450C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0AAC-48C1-41E3-8D51-41416B9D1DFD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9ACE-D654-43CE-9310-97945645E483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6BBD-AD80-4AB1-B99E-34CE0AE62678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10DB-4FF1-44EF-9595-A7008557A7A0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D948-F22E-4309-94C4-71291296B3B9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33BD-B3D1-4ADF-9135-FAE28434F9BD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EDF8-1AAA-42B2-9575-EFE4E90DA681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6C5A-8B9B-4CE8-8142-DA2F6655A752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4F04-9B3C-400E-A6F0-7540D8A89298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7C06-C10A-4291-B762-0BBB02222DA7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EFF8-48E4-40DD-8378-2F64EF31EE3E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4A08-8AD3-4BA5-9911-C2CD0F34D1F4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6520" y="685800"/>
            <a:ext cx="458496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F3E7-2C42-4A74-81B4-2A75DE5778FB}" type="slidenum">
              <a:rPr b="1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711-C23E-4005-8D66-D7147FC1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083-1F6D-4F46-947B-BE8E78E8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6283-B5F5-4142-A31F-B20B1DC4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104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75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104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75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5DA-E57E-4FE1-8B7D-429D8984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5443-9586-4E43-82BC-FFEE4424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C30C-7893-4041-9E76-9DFF5ABD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074B-D8F8-49BE-9F20-4F07C165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0B93-2C35-4A2A-AFDA-FFE9DD7F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F6DA-37FF-4C54-9922-453C408D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0EA9-5215-483C-8673-9C3B473B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A653-ACA4-4CB7-9607-6BD0C91B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BF5-96DB-4FAD-A3B6-F7297826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E6D5-996D-471D-9A10-78AA4077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B161-A42B-4FCB-BAA4-EDADACC7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EA07-A942-4B06-93D8-27CE9B6A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0218-2FD5-443B-8CEA-28AE03E2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5104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75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5104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75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457E-7FEF-4983-A16D-BFA019B4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00F2-C052-479B-BEE9-2CD9950B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AC9-0328-4401-B780-D57747B2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528-5203-4673-A776-F22E2599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2BB9-1D79-48DC-A23A-0DAAD407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DEB-13D5-40BD-8471-4D4A43BA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5A8-E6B3-4657-B48F-ECBEE9A1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6E0-DDBB-40C7-B897-ABCA52F4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915240"/>
            <a:ext cx="211428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6915240"/>
            <a:ext cx="321336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6915240"/>
            <a:ext cx="211464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CDA0-D76A-47DB-97F9-7F188B84A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62120" y="6933960"/>
            <a:ext cx="213336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5320" y="69339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520" y="6933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C957-C878-43AF-A9BD-207D7A48F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124080" y="55483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y of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a Dray – Glebe Collegiate Institu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322800" y="1890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hat is Geography?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Canada’s newest territory and its capital c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4680" y="3262320"/>
            <a:ext cx="4313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99, the Territory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nav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reated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qalu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hosen as its capital cit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slide1-25"/>
          <p:cNvPicPr/>
          <p:nvPr/>
        </p:nvPicPr>
        <p:blipFill>
          <a:blip r:embed="rId2"/>
          <a:stretch/>
        </p:blipFill>
        <p:spPr>
          <a:xfrm>
            <a:off x="4944960" y="2119320"/>
            <a:ext cx="493092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se people is not Canadi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 Kiefer Suth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er Shania Tw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 Angelina Jo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fer Mike W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er Avril Lav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74680" y="4862520"/>
            <a:ext cx="4313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her French name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gelina Joli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born 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Angeles, US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angelina-jolie-376x490"/>
          <p:cNvPicPr/>
          <p:nvPr/>
        </p:nvPicPr>
        <p:blipFill>
          <a:blip r:embed="rId2"/>
          <a:stretch/>
        </p:blipFill>
        <p:spPr>
          <a:xfrm>
            <a:off x="5761080" y="2347920"/>
            <a:ext cx="35812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rovince joined Canada in 1949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74680" y="2500200"/>
            <a:ext cx="4313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foundl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ined Canada in 1949. In 2001, the province’s name was officially changed to Newfoundl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d Labrado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newfoundland"/>
          <p:cNvPicPr/>
          <p:nvPr/>
        </p:nvPicPr>
        <p:blipFill>
          <a:blip r:embed="rId2"/>
          <a:stretch/>
        </p:blipFill>
        <p:spPr>
          <a:xfrm>
            <a:off x="4923000" y="2500200"/>
            <a:ext cx="4876560" cy="382752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0"/>
          <p:cNvSpPr/>
          <p:nvPr/>
        </p:nvSpPr>
        <p:spPr>
          <a:xfrm>
            <a:off x="7763400" y="37958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nd LABRA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highest award that Canada gives for outstanding achievement and service to the count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74680" y="3110040"/>
            <a:ext cx="967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r of Cana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three levels: Member (CM), Officer (OC), and Companion (CC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Making Connections PP 1-31a"/>
          <p:cNvPicPr/>
          <p:nvPr/>
        </p:nvPicPr>
        <p:blipFill>
          <a:blip r:embed="rId2"/>
          <a:stretch/>
        </p:blipFill>
        <p:spPr>
          <a:xfrm>
            <a:off x="1036800" y="4253040"/>
            <a:ext cx="2286000" cy="320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Making Connections PP 1-31b"/>
          <p:cNvPicPr/>
          <p:nvPr/>
        </p:nvPicPr>
        <p:blipFill>
          <a:blip r:embed="rId3"/>
          <a:stretch/>
        </p:blipFill>
        <p:spPr>
          <a:xfrm>
            <a:off x="6751800" y="4253040"/>
            <a:ext cx="2286000" cy="3200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Making Connections PP 1-31c"/>
          <p:cNvPicPr/>
          <p:nvPr/>
        </p:nvPicPr>
        <p:blipFill>
          <a:blip r:embed="rId4"/>
          <a:stretch/>
        </p:blipFill>
        <p:spPr>
          <a:xfrm>
            <a:off x="4008600" y="425304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ame of the longest river in Ca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04920" y="2652840"/>
            <a:ext cx="3475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kenzie 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Northwest Territories is 4241 km lo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Making Connections PP 1-33"/>
          <p:cNvPicPr/>
          <p:nvPr/>
        </p:nvPicPr>
        <p:blipFill>
          <a:blip r:embed="rId2"/>
          <a:stretch/>
        </p:blipFill>
        <p:spPr>
          <a:xfrm>
            <a:off x="3855960" y="2500200"/>
            <a:ext cx="613404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han the United Kingdom and France, what country is the origin of the greatest number of Canadian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74680" y="3567240"/>
            <a:ext cx="4313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are surprised to find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third largest source of Canadia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germany01"/>
          <p:cNvPicPr/>
          <p:nvPr/>
        </p:nvPicPr>
        <p:blipFill>
          <a:blip r:embed="rId2"/>
          <a:stretch/>
        </p:blipFill>
        <p:spPr>
          <a:xfrm>
            <a:off x="5532480" y="3033720"/>
            <a:ext cx="3905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erms of value, what is Canada’s most important export commod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274680" y="2881440"/>
            <a:ext cx="4313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s, trucks, and auto pa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our most important exports. In 2004, we sold more than $90 billion worth—primarily to the United Stat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Tire 08"/>
          <p:cNvPicPr/>
          <p:nvPr/>
        </p:nvPicPr>
        <p:blipFill>
          <a:blip r:embed="rId2"/>
          <a:stretch/>
        </p:blipFill>
        <p:spPr>
          <a:xfrm>
            <a:off x="5837400" y="3338640"/>
            <a:ext cx="265104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at province or territory is Canada’s highest mount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74680" y="3262320"/>
            <a:ext cx="4313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t Logan i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ukon Territo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tands an impressive 5959 metres above sea level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Mountains 123"/>
          <p:cNvPicPr/>
          <p:nvPr/>
        </p:nvPicPr>
        <p:blipFill>
          <a:blip r:embed="rId2"/>
          <a:stretch/>
        </p:blipFill>
        <p:spPr>
          <a:xfrm>
            <a:off x="4465800" y="2971800"/>
            <a:ext cx="525780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celebrities mentioned in Question #9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lative of the person chosen as the Greatest Canadian (Question #2). Which celebrity is it, and what is their relation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74680" y="4100400"/>
            <a:ext cx="6477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efer Sutherland is Tommy Douglas’s grand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Kiefer’s parents, both actors, are Shirley Douglas (Tommy’s daughter) and Donald Sutherlan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guide_story6+4"/>
          <p:cNvPicPr/>
          <p:nvPr/>
        </p:nvPicPr>
        <p:blipFill>
          <a:blip r:embed="rId2"/>
          <a:stretch/>
        </p:blipFill>
        <p:spPr>
          <a:xfrm>
            <a:off x="7589880" y="3186000"/>
            <a:ext cx="2168640" cy="2638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kiefer"/>
          <p:cNvPicPr/>
          <p:nvPr/>
        </p:nvPicPr>
        <p:blipFill>
          <a:blip r:embed="rId3"/>
          <a:stretch/>
        </p:blipFill>
        <p:spPr>
          <a:xfrm>
            <a:off x="6599160" y="4937040"/>
            <a:ext cx="17636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d Map of Cana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a blank sheet of paper, draw a map of Canada as close to reality as possible.  Do this on your own – without looking at other people’s maps or any reference material such as an atla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your map, label what you regard as important features, such as provinces, cities, mountain ranges, and bodies of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MCj01302530000[1]"/>
          <p:cNvPicPr/>
          <p:nvPr/>
        </p:nvPicPr>
        <p:blipFill>
          <a:blip r:embed="rId2"/>
          <a:stretch/>
        </p:blipFill>
        <p:spPr>
          <a:xfrm>
            <a:off x="6294600" y="4811760"/>
            <a:ext cx="276696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Geograph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Geography Qui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d Map of Can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 of Geograph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d Map of Cana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arts of Canada do you know b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arts of your map are most incomple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feel it is important to know where places are in Canada?  Expl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MCj01345490000[1]"/>
          <p:cNvPicPr/>
          <p:nvPr/>
        </p:nvPicPr>
        <p:blipFill>
          <a:blip r:embed="rId2"/>
          <a:stretch/>
        </p:blipFill>
        <p:spPr>
          <a:xfrm>
            <a:off x="6980400" y="3567240"/>
            <a:ext cx="1603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Geograph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601200" cy="5853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grap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science that tries to understand how the Earth works and how humans chang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cience examines the Earth’s surface and the processes that shap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y especially looks at the relationship between people and the Earth’s physic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nderstand our relationship with the Earth, geographers ask questions and search for answers to problems.  By exploring these problems, we can make better, wiser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is Geograph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graphers try to answer thre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re things located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nnections between people and the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illustrate this information to understand it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graphy has two main focu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’s physical geography (natural thin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’s human geography (people and things related to people such as c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apollo17_earth"/>
          <p:cNvPicPr/>
          <p:nvPr/>
        </p:nvPicPr>
        <p:blipFill>
          <a:blip r:embed="rId1"/>
          <a:stretch/>
        </p:blipFill>
        <p:spPr>
          <a:xfrm>
            <a:off x="1494000" y="0"/>
            <a:ext cx="75438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vince or territory has one of the world’s greatest stores of dinosaur b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lide11"/>
          <p:cNvPicPr/>
          <p:nvPr/>
        </p:nvPicPr>
        <p:blipFill>
          <a:blip r:embed="rId2"/>
          <a:stretch/>
        </p:blipFill>
        <p:spPr>
          <a:xfrm>
            <a:off x="6108840" y="2576520"/>
            <a:ext cx="3519360" cy="4678200"/>
          </a:xfrm>
          <a:prstGeom prst="rect">
            <a:avLst/>
          </a:prstGeom>
          <a:ln w="0">
            <a:noFill/>
          </a:ln>
        </p:spPr>
      </p:pic>
      <p:sp>
        <p:nvSpPr>
          <p:cNvPr id="96" name="Oval 5"/>
          <p:cNvSpPr/>
          <p:nvPr/>
        </p:nvSpPr>
        <p:spPr>
          <a:xfrm>
            <a:off x="7894800" y="5929200"/>
            <a:ext cx="685800" cy="30492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5989680" y="6005520"/>
            <a:ext cx="1828800" cy="76320"/>
          </a:xfrm>
          <a:prstGeom prst="line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74680" y="4633920"/>
            <a:ext cx="5456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ea near Drumheller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ber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s the best place to look for dinosaur bones in Canad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, the CBC ran a series of television programs that asked Canadians to choose the Greatest Canadian of all time. Who was chosen for this hon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4680" y="3948120"/>
            <a:ext cx="4313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r premier of Saskatchew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mmy Dougl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hosen for his role in establishing medicar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Making Connections PP 1-13"/>
          <p:cNvPicPr/>
          <p:nvPr/>
        </p:nvPicPr>
        <p:blipFill>
          <a:blip r:embed="rId2"/>
          <a:stretch/>
        </p:blipFill>
        <p:spPr>
          <a:xfrm>
            <a:off x="5303880" y="3567240"/>
            <a:ext cx="4497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a is the second largest country in the world. What country is larger in area than Ca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74680" y="2652840"/>
            <a:ext cx="9677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s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bout as big as Canada and Australia combin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slide01-15"/>
          <p:cNvPicPr/>
          <p:nvPr/>
        </p:nvPicPr>
        <p:blipFill>
          <a:blip r:embed="rId2"/>
          <a:stretch/>
        </p:blipFill>
        <p:spPr>
          <a:xfrm>
            <a:off x="2637000" y="3186000"/>
            <a:ext cx="7321320" cy="417672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6981840" y="356724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314960" y="371952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7896240" y="432900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781440" y="410040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772160" y="547200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8429760" y="592920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7363080" y="455760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4543560" y="592920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6981840" y="394812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6372720" y="4786200"/>
            <a:ext cx="5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hockey team has won the Stanley Cup most of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9440"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74680" y="2652840"/>
            <a:ext cx="9524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ntreal Canadiens have won the Stanley Cup 24 times, making them the winningest team in sports histor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Ice Hockey - Stanley Cup"/>
          <p:cNvPicPr/>
          <p:nvPr/>
        </p:nvPicPr>
        <p:blipFill>
          <a:blip r:embed="rId2"/>
          <a:stretch/>
        </p:blipFill>
        <p:spPr>
          <a:xfrm>
            <a:off x="1417680" y="4451400"/>
            <a:ext cx="3144960" cy="2620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montreal_800600"/>
          <p:cNvPicPr/>
          <p:nvPr/>
        </p:nvPicPr>
        <p:blipFill>
          <a:blip r:embed="rId3"/>
          <a:stretch/>
        </p:blipFill>
        <p:spPr>
          <a:xfrm>
            <a:off x="5227560" y="4300560"/>
            <a:ext cx="38102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4, Canada’s foreign trade was approximatel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0 million per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0 million per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0 million per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0 million per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90 million per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0">
              <a:spcBef>
                <a:spcPts val="700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74680" y="5396040"/>
            <a:ext cx="4572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90 millio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r hour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Making Connections PP 1-19"/>
          <p:cNvPicPr/>
          <p:nvPr/>
        </p:nvPicPr>
        <p:blipFill>
          <a:blip r:embed="rId2"/>
          <a:stretch/>
        </p:blipFill>
        <p:spPr>
          <a:xfrm>
            <a:off x="5837400" y="2881440"/>
            <a:ext cx="274140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rime minister has been in power for the longest period of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74680" y="3262320"/>
            <a:ext cx="55627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Honour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lliam Lyon Mackenzie 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Prime Minister for almost 22 yea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king_lg"/>
          <p:cNvPicPr/>
          <p:nvPr/>
        </p:nvPicPr>
        <p:blipFill>
          <a:blip r:embed="rId2"/>
          <a:stretch/>
        </p:blipFill>
        <p:spPr>
          <a:xfrm>
            <a:off x="5989680" y="2805120"/>
            <a:ext cx="3213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Geography Quiz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se materials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d in Can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m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74680" y="5091120"/>
            <a:ext cx="4313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 mined in Canad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in_ore_from_Cornwall"/>
          <p:cNvPicPr/>
          <p:nvPr/>
        </p:nvPicPr>
        <p:blipFill>
          <a:blip r:embed="rId2"/>
          <a:stretch/>
        </p:blipFill>
        <p:spPr>
          <a:xfrm>
            <a:off x="5151600" y="3033720"/>
            <a:ext cx="37335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8:59:57Z</dcterms:created>
  <dc:creator>Craig I.W. Marlatt</dc:creator>
  <dc:description/>
  <dc:language>en-US</dc:language>
  <cp:lastModifiedBy>Customer</cp:lastModifiedBy>
  <dcterms:modified xsi:type="dcterms:W3CDTF">2010-09-02T15:11:00Z</dcterms:modified>
  <cp:revision>1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11033</vt:lpwstr>
  </property>
</Properties>
</file>